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fr-C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2F00F71-4BA3-4737-81BE-88EFC1D038C9}" type="slidenum">
              <a:rPr b="0" lang="fr-C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25FEA9C-779E-425F-AA8D-553DA4C93A9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CA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519FA4C-09B0-47BD-8789-AEB0364CFC9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FD6533-1419-43C2-8F5E-B1164102740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B2F84B0-C0A5-4403-8C1D-09AA0D9261E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44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5881D9A1-C49A-46E9-8F63-3DC4CE35A79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007CCA-40C8-4432-8775-FCE7BDB1948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EC6966-4584-4786-BEC2-42FB3A5F1D65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Espace réservé du numéro de diapositiv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4012FB4-0B1C-4ECF-8396-A29996A6BF0D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E15EC6C-19AD-4A5A-A154-2B2667293B59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fr-C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AB3C95B-FC55-4AA0-99B6-C93D8AD564B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D45673C-11B7-4CE1-A7C3-8D665D66D03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BCA090-E098-40D1-B6A2-F210AB8D2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23B0CC-DBB3-458A-B305-DB3C85E25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9F3F8-F336-4767-B364-C9AE1243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54792-2B49-4A85-AC6B-9E273987F0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71860-EEB6-419A-9660-78BC78F2C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1D0EF-144B-4370-B12E-3DD99F57C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AB07-5599-4F79-B811-793057F23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43904-1E60-4780-BAD3-80110D884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86D0B-26F7-4988-BD33-AFA744EF8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B64EA-B504-4947-BD8F-02C7D4E7B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BD402-9504-4743-A1C9-199596D19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9996EF-FEB0-4171-8BAA-AD6549940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024D7-8E60-40F0-86DD-DB5A9812B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55A5D-DD71-4069-A0E5-F9EB5549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E16E-01CD-45B9-A687-F04DE77FE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2B511-BB80-47CE-AFF2-DF2C71883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80545-692E-4BC1-9750-67EB2E9A1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4FE906-14DF-42B1-AF60-84C7F7D4C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57296-F3C2-4956-849F-1891D0BEB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E04AE9-B3D6-4691-84C6-F6F314108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591410-9985-4A2B-9CF6-20B69F377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56840-3C4A-4E2D-B656-7956DB2D8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2232CC-A2CB-4CA1-9218-CCD66E5B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74C205-FC16-4AD7-82FA-C5802118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C4297-CF4A-4319-8750-5B4414FFD7FA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aea9a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7c302a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ae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ae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9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aea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7c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9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9646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9646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c302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9646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c30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aea9a8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7c30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96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ae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ae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7c3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96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ae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7c30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96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aea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9646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96463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7c302a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96463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7c302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1505B-EF5D-4781-A037-64B4C2B9A926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immigrationfrancophone.ca/" TargetMode="External"/><Relationship Id="rId2" Type="http://schemas.openxmlformats.org/officeDocument/2006/relationships/hyperlink" Target="http://www.immigrationfrancophone.ca/" TargetMode="External"/><Relationship Id="rId3" Type="http://schemas.openxmlformats.org/officeDocument/2006/relationships/hyperlink" Target="http://www.immigrationfrancophone.ca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Entrée express – en attente d’une lentille francoph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Colloque de perfectionnement professionnel d’OCASI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Marjie Brown, gestionnaire – Immigration, FCF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000000"/>
                </a:solidFill>
                <a:latin typeface="Arial"/>
              </a:rPr>
              <a:t>Toronto, 3 novembre 201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fcfa"/>
          <p:cNvPicPr/>
          <p:nvPr/>
        </p:nvPicPr>
        <p:blipFill>
          <a:blip r:embed="rId1"/>
          <a:stretch/>
        </p:blipFill>
        <p:spPr>
          <a:xfrm>
            <a:off x="3132000" y="115920"/>
            <a:ext cx="1241640" cy="1511280"/>
          </a:xfrm>
          <a:prstGeom prst="rect">
            <a:avLst/>
          </a:prstGeom>
          <a:ln w="0">
            <a:noFill/>
          </a:ln>
        </p:spPr>
      </p:pic>
      <p:sp>
        <p:nvSpPr>
          <p:cNvPr id="116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BC64B-716B-4ED9-81D5-698857459FD5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24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395280" y="169992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Rien n’indique qu’Entrée express pourrait être </a:t>
            </a:r>
            <a:r>
              <a:rPr b="0" i="1" lang="fr-FR" sz="2400" spc="-1" strike="noStrike">
                <a:solidFill>
                  <a:srgbClr val="000000"/>
                </a:solidFill>
                <a:latin typeface="Arial"/>
              </a:rPr>
              <a:t>la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 solution pour les communautés francophones et acadienn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l s’agit plutôt d’un outil conçu pour la majorité, qui ne répond pas aux réalités spécifiques de la minorité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s besoins en matière d’immigration francophone demeurent urgents et criant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De nouvelles occasions à saisir avec les gouvernements fédéral, provinciaux et territoriau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Action, action, action…en collaboration avec tous les parte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06024-457E-45E5-9E15-512FF7555D63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786040" y="1828800"/>
            <a:ext cx="620568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ffffff"/>
                </a:solidFill>
                <a:latin typeface="Arial"/>
              </a:rPr>
              <a:t>Questions - discus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427280" y="4292640"/>
            <a:ext cx="4716360" cy="223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663300"/>
                </a:solidFill>
                <a:uFillTx/>
                <a:latin typeface="Arial"/>
                <a:hlinkClick r:id="rId1"/>
              </a:rPr>
              <a:t>m.brown@fcfa.c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 u="sng">
                <a:solidFill>
                  <a:srgbClr val="663300"/>
                </a:solidFill>
                <a:uFillTx/>
                <a:latin typeface="Arial"/>
                <a:hlinkClick r:id="rId2"/>
              </a:rPr>
              <a:t>www.immigrationfrancophone.ca</a:t>
            </a:r>
            <a:r>
              <a:rPr b="0" lang="fr-CA" sz="2000" spc="-1" strike="noStrike" u="sng">
                <a:solidFill>
                  <a:srgbClr val="663300"/>
                </a:solidFill>
                <a:uFillTx/>
                <a:latin typeface="Arial"/>
                <a:hlinkClick r:id="rId3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70c0"/>
                </a:solidFill>
                <a:latin typeface="Arial"/>
              </a:rPr>
              <a:t>www.facebook.com/immfrancophon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000" spc="-1" strike="noStrike">
                <a:solidFill>
                  <a:srgbClr val="0070c0"/>
                </a:solidFill>
                <a:latin typeface="Arial"/>
              </a:rPr>
              <a:t>@FCFAimmig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Image Preview"/>
          <p:cNvPicPr/>
          <p:nvPr/>
        </p:nvPicPr>
        <p:blipFill>
          <a:blip r:embed="rId4"/>
          <a:stretch/>
        </p:blipFill>
        <p:spPr>
          <a:xfrm>
            <a:off x="3708360" y="5084640"/>
            <a:ext cx="515880" cy="5176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7" descr="Image Preview"/>
          <p:cNvPicPr/>
          <p:nvPr/>
        </p:nvPicPr>
        <p:blipFill>
          <a:blip r:embed="rId5"/>
          <a:stretch/>
        </p:blipFill>
        <p:spPr>
          <a:xfrm>
            <a:off x="3780000" y="5732640"/>
            <a:ext cx="458640" cy="450720"/>
          </a:xfrm>
          <a:prstGeom prst="rect">
            <a:avLst/>
          </a:prstGeom>
          <a:ln w="0">
            <a:noFill/>
          </a:ln>
        </p:spPr>
      </p:pic>
      <p:sp>
        <p:nvSpPr>
          <p:cNvPr id="14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A126-D4EB-4FAD-A9C6-17AC9E56C4E6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oneTexte 6"/>
          <p:cNvSpPr/>
          <p:nvPr/>
        </p:nvSpPr>
        <p:spPr>
          <a:xfrm>
            <a:off x="0" y="4292640"/>
            <a:ext cx="4356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Coor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Arial"/>
              </a:rPr>
              <a:t>Portail de l’immigration francoph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57120" y="457200"/>
            <a:ext cx="83296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ontexte histor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24000" y="1628280"/>
            <a:ext cx="83628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Immigration francophone – un enjeu prioritaire pour les communautés francophones et acadien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Moteur de la croissance démograph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Outil de développ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Francophonie diversifiée et inclus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Or, les communautés ne reçoivent pas leur juste part d’immigra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11400" indent="-59112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lus de 98 % d’immigrants d’expression anglaise comparativement à moins de 2 % d’immigrants d’expression frança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DB89C-5CC9-4A60-94CF-07EC4F65565C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adre législatif et poli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69992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550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Objectifs de la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Loi sur l’immigration et la protection des réfugiés 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(2002), article 3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0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b) D’enrichir et de renforcer le tissu social et culturel du Canada dans le respect de son caractère fédéral, bilingue et multiculturel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0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b.1) de favoriser le développement des collectivités de langues officielles minoritaires au Can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550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Premier objectif du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Cadre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(2003) et du </a:t>
            </a:r>
            <a:r>
              <a:rPr b="0" i="1" lang="fr-CA" sz="2200" spc="-1" strike="noStrike">
                <a:solidFill>
                  <a:srgbClr val="000000"/>
                </a:solidFill>
                <a:latin typeface="Arial"/>
              </a:rPr>
              <a:t>Plan stratégique pour favoriser l’immigration au sein des communautés francophones en situation minoritaire (2006)</a:t>
            </a: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0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Accroître le nombre d’immigrants francophones pour atteindre une cible annuelle d’au moins 4,4 % d’immigrants d’expression française d’ici 2023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00"/>
              </a:spcBef>
              <a:buClr>
                <a:srgbClr val="7c302a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E8D12-D141-41CE-ABD3-B0FCC0840D15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4400" spc="-1" strike="noStrike">
                <a:solidFill>
                  <a:srgbClr val="000000"/>
                </a:solidFill>
                <a:latin typeface="Arial"/>
              </a:rPr>
              <a:t>Cadre législatif et polit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68360" y="1700280"/>
            <a:ext cx="8229600" cy="42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Selon l’article 41 de la </a:t>
            </a:r>
            <a:r>
              <a:rPr b="0" i="1" lang="fr-CA" sz="2600" spc="-1" strike="noStrike">
                <a:solidFill>
                  <a:srgbClr val="000000"/>
                </a:solidFill>
                <a:latin typeface="Arial"/>
              </a:rPr>
              <a:t>Loi sur les langues officielles</a:t>
            </a: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5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Le gouvernement fédéral </a:t>
            </a:r>
            <a:r>
              <a:rPr b="0" lang="fr-CA" sz="1800" spc="-1" strike="noStrike" u="sng">
                <a:solidFill>
                  <a:srgbClr val="000000"/>
                </a:solidFill>
                <a:uFillTx/>
                <a:latin typeface="Arial"/>
              </a:rPr>
              <a:t>s’engage à favoriser l’épanouissement des minorités francophones et anglophones du Canada et à appuyer leur développement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, ainsi qu’à promouvoir la pleine reconnaissance et l’usage du français et de l’anglais dans la société canadienn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249200" indent="-609480">
              <a:spcBef>
                <a:spcPts val="45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 u="sng">
                <a:solidFill>
                  <a:srgbClr val="000000"/>
                </a:solidFill>
                <a:uFillTx/>
                <a:latin typeface="Arial"/>
              </a:rPr>
              <a:t>Il incombe aux institutions fédérales de veiller à ce que soient prises des mesures positives pour mettre en œuvre cet engagement</a:t>
            </a:r>
            <a:r>
              <a:rPr b="0" lang="fr-CA" sz="1800" spc="-1" strike="noStrike">
                <a:solidFill>
                  <a:srgbClr val="000000"/>
                </a:solidFill>
                <a:latin typeface="Arial"/>
              </a:rPr>
              <a:t>. Il demeure entendu que cette mise en œuvre se fait dans le respect des champs de compétence et des pouvoirs des provi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0DC09-425B-480D-B6ED-099DA8BF5B8D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Nombre d’immigrants d’expression frança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539640" y="1916280"/>
          <a:ext cx="8136000" cy="4700520"/>
        </p:xfrm>
        <a:graphic>
          <a:graphicData uri="http://schemas.openxmlformats.org/drawingml/2006/table">
            <a:tbl>
              <a:tblPr/>
              <a:tblGrid>
                <a:gridCol w="1292400"/>
                <a:gridCol w="4132080"/>
                <a:gridCol w="271152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b. de résidents permanents (RP) francophones (hors Québe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de RP francophones vs tous les R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68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63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9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63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1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650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2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9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63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4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5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63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5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0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65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68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8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63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3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579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(jan.-sept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 2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56772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: Citoyenneté et Immigration Canada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8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F7A9D-50DF-4BE4-8FBD-10F57DEF749E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800" spc="-1" strike="noStrike">
                <a:solidFill>
                  <a:srgbClr val="000000"/>
                </a:solidFill>
                <a:latin typeface="Arial"/>
              </a:rPr>
              <a:t>Nombre d’immigrants économiques d’expression français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39640" y="1844640"/>
          <a:ext cx="8136000" cy="4579920"/>
        </p:xfrm>
        <a:graphic>
          <a:graphicData uri="http://schemas.openxmlformats.org/drawingml/2006/table">
            <a:tbl>
              <a:tblPr/>
              <a:tblGrid>
                <a:gridCol w="1292400"/>
                <a:gridCol w="4132080"/>
                <a:gridCol w="2711520"/>
              </a:tblGrid>
              <a:tr h="914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nné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b. de résidents permanents (RP) économiques francophones (hors Québec)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C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% de RP économiques francophones vs tous les RP éc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9646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1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36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4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59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41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2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37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14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3366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6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33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3351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4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7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</a:tr>
              <a:tr h="57888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14 (jan.-sept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 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,96 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4d3d3"/>
                    </a:solidFill>
                  </a:tcPr>
                </a:tc>
              </a:tr>
              <a:tr h="402480">
                <a:tc gridSpan="3"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CA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ource : Citoyenneté et Immigration Canada, 20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eae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1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F8AB-9B7E-45C9-9D93-1EE35E8B34B2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trée ex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7200" y="1916280"/>
            <a:ext cx="82296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Éléments contextuels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Élimination du financement fédéral qui permettait aux communautés de faire la promotion et du recrutement dans le cadre de Destination Canada (2012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Abolition du programme Avantage significatif francophone, le seul incitatif pour les employeurs en termes de recrutement de travailleurs francophones à l’étranger (septembre 2014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Engagements de CIC qu’Entrée express deviendra un outil par excellence pour augmenter l’immigration francophone (depuis 2012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36EC-8BCD-4F63-AB8F-1584B2F679CB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trée ex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600" spc="-1" strike="noStrike">
                <a:solidFill>
                  <a:srgbClr val="000000"/>
                </a:solidFill>
                <a:latin typeface="Arial"/>
              </a:rPr>
              <a:t>Principales préoccupations soulevées par la FCFA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Inquiétudes quant à la capacité des francophones à s’inscrire dans le bassin d’Entrée expres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Inquiétudes quant à l’absence de mesures pour inciter des employeurs à faire des offres d’emploi à des immigrants francophones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Arial"/>
              </a:rPr>
              <a:t>Comment veiller à ce que des candidats francophones dans le bassin soient invités à soumettre une demande de résidence permanent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E395-322D-4002-A15F-081CFECE22FF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Arial"/>
              </a:rPr>
              <a:t>Entrée expr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981080"/>
            <a:ext cx="822960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c302a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000000"/>
                </a:solidFill>
                <a:latin typeface="Arial"/>
              </a:rPr>
              <a:t>Constats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Depuis trois ans, la FCFA demande qu’une lentille francophone soit intégrée au système, et de pouvoir collaborer avec le ministère pour l’élaboration de celle-ci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système Entrée express a été lancé en janvier 2015 sans lentille francophon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Arial"/>
              </a:rPr>
              <a:t>Le système ne comporte toujours pas à ce jour de mécanisme pour identifier si un candidat est francophone ou n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696463"/>
              </a:buClr>
              <a:buSzPct val="8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Slide Number Placeholder 1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DB8E-C718-4FD5-8B1F-BE5CD7E2A8B9}" type="slidenum">
              <a:rPr b="0" lang="fr-CA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2T15:42:37Z</dcterms:created>
  <dc:creator>s.quinty</dc:creator>
  <dc:description/>
  <dc:language>en-US</dc:language>
  <cp:lastModifiedBy>Marjie Brown</cp:lastModifiedBy>
  <cp:lastPrinted>2013-04-23T13:36:52Z</cp:lastPrinted>
  <dcterms:modified xsi:type="dcterms:W3CDTF">2015-11-02T14:51:05Z</dcterms:modified>
  <cp:revision>527</cp:revision>
  <dc:subject/>
  <dc:title>Diapositive 1</dc:title>
</cp:coreProperties>
</file>